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28.pct" ContentType="image/x-pict"/>
  <Override PartName="/ppt/media/image27.jpeg" ContentType="image/jpeg"/>
  <Override PartName="/ppt/media/image24.png" ContentType="image/png"/>
  <Override PartName="/ppt/media/image11.jpeg" ContentType="image/jpeg"/>
  <Override PartName="/ppt/media/image22.png" ContentType="image/png"/>
  <Override PartName="/ppt/media/image13.jpeg" ContentType="image/jpeg"/>
  <Override PartName="/ppt/media/image23.png" ContentType="image/png"/>
  <Override PartName="/ppt/media/image20.png" ContentType="image/png"/>
  <Override PartName="/ppt/media/image18.png" ContentType="image/png"/>
  <Override PartName="/ppt/media/image7.jpeg" ContentType="image/jpeg"/>
  <Override PartName="/ppt/media/image6.png" ContentType="image/png"/>
  <Override PartName="/ppt/media/image31.png" ContentType="image/png"/>
  <Override PartName="/ppt/media/image8.png" ContentType="image/png"/>
  <Override PartName="/ppt/media/image14.jpeg" ContentType="image/jpeg"/>
  <Override PartName="/ppt/media/image5.png" ContentType="image/png"/>
  <Override PartName="/ppt/media/image10.jpeg" ContentType="image/jpeg"/>
  <Override PartName="/ppt/media/image30.png" ContentType="image/png"/>
  <Override PartName="/ppt/media/image12.png" ContentType="image/png"/>
  <Override PartName="/ppt/media/image9.jpeg" ContentType="image/jpeg"/>
  <Override PartName="/ppt/media/image34.png" ContentType="image/png"/>
  <Override PartName="/ppt/media/image4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1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15.jpeg" ContentType="image/jpeg"/>
  <Override PartName="/ppt/media/image29.pct" ContentType="image/x-pict"/>
  <Override PartName="/ppt/media/image16.png" ContentType="image/png"/>
  <Override PartName="/ppt/media/image17.png" ContentType="image/png"/>
  <Override PartName="/ppt/media/image19.png" ContentType="image/png"/>
  <Override PartName="/ppt/media/image2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362AC-6AE7-4C0B-A58D-A3A4BD871F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4CC5A-7752-442C-BCAB-3AE3F75CC5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FA265-5606-4DAF-AEAF-1CEE64F20E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D4D68-F138-4AAB-B3A5-00AD8D0DE5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7F008-6D39-4952-AB7E-5982280727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AE828-A2ED-4572-925B-7D58943899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3BAF0-06CF-4499-A0FE-AE5D14154D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D8F36-7FC0-44C7-A58B-554E0F93B7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AAB44-69E2-47E3-9513-9ECD82D982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EAD90-C066-4000-AFF1-E3A78FB8CD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B69DE-2BF9-43B3-921E-DA5DB6AEC4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B243A-D453-4078-9D79-AB1F0DEFE0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8DD80-560F-4FDF-BC82-1896DD1A42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F5475-CC65-4515-B480-9CB15397E5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36477-FC77-4DC9-8CA1-ACFC31704B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7AC89-D4EC-4F0B-943C-9756CFBB2E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8F4B3-9FCA-499B-A420-5E9B2170A0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9A8D9-B931-4E48-BA0A-D76566110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12028-D34A-4F56-B46B-51E6BEA27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AFF7A-A4E0-47C9-B3C3-37599B8F0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C113D-FE87-4075-AC83-435D88830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B3018-7401-48C9-BEB7-D77F60A9A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78F66-80BE-4705-A7DB-87A181B64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03810-76EA-413F-AFAE-E423510A1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84298-35D8-44E4-963F-C99AA5E9C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2D3FF-1AA9-4A2F-A643-56F0DA86D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DD17D-75F1-457E-9ACA-385125B38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0E668-E01E-4296-80E2-830830487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ADD1F-364E-4345-A71B-3CA6AE32A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021F0-04EA-43EA-ACEC-63E22A17C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B8526-10A5-46FF-9371-DD276F3D9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786B6-5151-4418-A0B7-6EBEBDC74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E3BAC-5FC6-49EC-99C2-603934C76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5CBA2-C810-4842-936D-07A8F12C4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285FF-D15C-4E80-A2B3-30EB2BF59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3C900-CD7F-4506-A58A-FA4FF4891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F7F11-A30D-431C-A6D6-8239E527D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46F09-87AE-45A4-A751-D01CDE044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DCDFB-3774-453C-83B8-01AA65B75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EC7B8-314B-41A3-94C6-3A8398BBA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DAD1D-5829-4B68-86BB-758033B4C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Expbanna" descr=""/>
          <p:cNvPicPr/>
          <p:nvPr/>
        </p:nvPicPr>
        <p:blipFill>
          <a:blip r:embed="rId3"/>
          <a:stretch/>
        </p:blipFill>
        <p:spPr>
          <a:xfrm>
            <a:off x="0" y="0"/>
            <a:ext cx="6858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30DF0-4686-4987-AA1A-1218C23A17FE}" type="datetime">
              <a:rPr b="0" lang="en-US" sz="1400" spc="-1" strike="noStrike">
                <a:solidFill>
                  <a:srgbClr val="4824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EB8EC-D779-4B41-B999-320C56063C96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5" name="EXPHORSA" descr=""/>
          <p:cNvPicPr/>
          <p:nvPr/>
        </p:nvPicPr>
        <p:blipFill>
          <a:blip r:embed="rId4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F9B93-5380-4209-8827-C697DA2146BD}" type="datetime">
              <a:rPr b="0" lang="en-US" sz="1400" spc="-1" strike="noStrike">
                <a:solidFill>
                  <a:srgbClr val="4824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6E4C6-3491-42AA-A453-3B2B994E5D32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0" y="0"/>
            <a:ext cx="6362640" cy="6858000"/>
            <a:chOff x="0" y="0"/>
            <a:chExt cx="6362640" cy="6858000"/>
          </a:xfrm>
        </p:grpSpPr>
        <p:pic>
          <p:nvPicPr>
            <p:cNvPr id="48" name="Expbanna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6858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EXPHORSA" descr=""/>
            <p:cNvPicPr/>
            <p:nvPr/>
          </p:nvPicPr>
          <p:blipFill>
            <a:blip r:embed="rId4"/>
            <a:stretch/>
          </p:blipFill>
          <p:spPr>
            <a:xfrm>
              <a:off x="3505320" y="5715000"/>
              <a:ext cx="2857320" cy="95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0" name="EXPHORSA" descr=""/>
          <p:cNvPicPr/>
          <p:nvPr/>
        </p:nvPicPr>
        <p:blipFill>
          <a:blip r:embed="rId5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image" Target="../media/image4.png"/><Relationship Id="rId4" Type="http://schemas.openxmlformats.org/officeDocument/2006/relationships/image" Target="../media/image19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ct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ct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19.png"/><Relationship Id="rId9" Type="http://schemas.openxmlformats.org/officeDocument/2006/relationships/image" Target="../media/image19.png"/><Relationship Id="rId10" Type="http://schemas.openxmlformats.org/officeDocument/2006/relationships/image" Target="../media/image19.png"/><Relationship Id="rId11" Type="http://schemas.openxmlformats.org/officeDocument/2006/relationships/image" Target="../media/image19.png"/><Relationship Id="rId12" Type="http://schemas.openxmlformats.org/officeDocument/2006/relationships/image" Target="../media/image19.png"/><Relationship Id="rId13" Type="http://schemas.openxmlformats.org/officeDocument/2006/relationships/image" Target="../media/image19.png"/><Relationship Id="rId14" Type="http://schemas.openxmlformats.org/officeDocument/2006/relationships/image" Target="../media/image19.png"/><Relationship Id="rId15" Type="http://schemas.openxmlformats.org/officeDocument/2006/relationships/image" Target="../media/image19.png"/><Relationship Id="rId16" Type="http://schemas.openxmlformats.org/officeDocument/2006/relationships/image" Target="../media/image4.png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4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image" Target="../media/image4.png"/><Relationship Id="rId4" Type="http://schemas.openxmlformats.org/officeDocument/2006/relationships/hyperlink" Target="http://en.wikipedia.org/wiki/Halakha" TargetMode="External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4.png"/><Relationship Id="rId4" Type="http://schemas.openxmlformats.org/officeDocument/2006/relationships/image" Target="../media/image19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image" Target="../media/image4.png"/><Relationship Id="rId4" Type="http://schemas.openxmlformats.org/officeDocument/2006/relationships/image" Target="../media/image19.png"/><Relationship Id="rId5" Type="http://schemas.openxmlformats.org/officeDocument/2006/relationships/image" Target="../media/image19.png"/><Relationship Id="rId6" Type="http://schemas.openxmlformats.org/officeDocument/2006/relationships/image" Target="../media/image19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17" descr="Purple Wall.jpg"/>
          <p:cNvPicPr/>
          <p:nvPr/>
        </p:nvPicPr>
        <p:blipFill>
          <a:blip r:embed="rId2"/>
          <a:stretch/>
        </p:blipFill>
        <p:spPr>
          <a:xfrm>
            <a:off x="0" y="0"/>
            <a:ext cx="7162920" cy="5372280"/>
          </a:xfrm>
          <a:prstGeom prst="rect">
            <a:avLst/>
          </a:prstGeom>
          <a:ln w="0">
            <a:noFill/>
          </a:ln>
        </p:spPr>
      </p:pic>
      <p:pic>
        <p:nvPicPr>
          <p:cNvPr id="95" name="Title 1" descr=""/>
          <p:cNvPicPr/>
          <p:nvPr/>
        </p:nvPicPr>
        <p:blipFill>
          <a:blip r:embed="rId3"/>
          <a:stretch/>
        </p:blipFill>
        <p:spPr>
          <a:xfrm>
            <a:off x="85680" y="5175360"/>
            <a:ext cx="6327720" cy="84744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560" y="5952600"/>
            <a:ext cx="6019560" cy="5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Times New Roman"/>
              </a:rPr>
              <a:t>Presentation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594720"/>
            <a:ext cx="59436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BUBBL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19" descr="rabbi.jpg"/>
          <p:cNvPicPr/>
          <p:nvPr/>
        </p:nvPicPr>
        <p:blipFill>
          <a:blip r:embed="rId4"/>
          <a:stretch/>
        </p:blipFill>
        <p:spPr>
          <a:xfrm>
            <a:off x="6553080" y="1371600"/>
            <a:ext cx="2057400" cy="25909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20" descr="Happy.jpg"/>
          <p:cNvPicPr/>
          <p:nvPr/>
        </p:nvPicPr>
        <p:blipFill>
          <a:blip r:embed="rId5"/>
          <a:stretch/>
        </p:blipFill>
        <p:spPr>
          <a:xfrm>
            <a:off x="4724280" y="4724280"/>
            <a:ext cx="2681280" cy="182880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04920" y="3871080"/>
            <a:ext cx="59436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2dcdb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304920" y="4172760"/>
            <a:ext cx="59436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2dcdb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304920" y="4477680"/>
            <a:ext cx="59436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2dcdb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Title 3" descr=""/>
          <p:cNvPicPr/>
          <p:nvPr/>
        </p:nvPicPr>
        <p:blipFill>
          <a:blip r:embed="rId2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 txBox="1"/>
          <p:nvPr/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aning “the fulfillment of a commandmen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this case, the first commandment of the Torah: “Be fruitful and multiply” as it related to marriag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re the wedding symbolizes the transition from the basic Jewish institution of home and to the responsibility for the welfare of the community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Box 5"/>
          <p:cNvSpPr/>
          <p:nvPr/>
        </p:nvSpPr>
        <p:spPr>
          <a:xfrm>
            <a:off x="457200" y="600876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&gt;Back to Religious Practices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Title 3" descr=""/>
          <p:cNvPicPr/>
          <p:nvPr/>
        </p:nvPicPr>
        <p:blipFill>
          <a:blip r:embed="rId2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 txBox="1"/>
          <p:nvPr/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st the belief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456840" y="1447920"/>
            <a:ext cx="7086600" cy="500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sso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commemorates the Exodus from Egyp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celebrated for 7-8 days, usually over Eas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breads and grains are avoided during this   holi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Jewish law prevents people going to work or school during the first two and last two days of Passov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6018120" y="0"/>
            <a:ext cx="3125880" cy="206064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 txBox="1"/>
          <p:nvPr/>
        </p:nvSpPr>
        <p:spPr>
          <a:xfrm>
            <a:off x="228600" y="457200"/>
            <a:ext cx="56386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5929" dir="2028877" blurRad="0" rotWithShape="0">
                    <a:srgbClr val="9999ff"/>
                  </a:outerShdw>
                </a:effectLst>
                <a:latin typeface="Arial Black"/>
              </a:rPr>
              <a:t>Religious Celebrations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5929" dir="2028877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380880" y="609480"/>
            <a:ext cx="7543800" cy="61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buClr>
                <a:srgbClr val="48240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Rosh Hashanah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45720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-Jewish New Year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45720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-Jews make resolutions and reflect on the                     past year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45720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-Jews begin making mental preparations for Yom Kippur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45720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-Worship takes place in the synagogue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45720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45720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601"/>
              </a:spcBef>
              <a:buClr>
                <a:srgbClr val="48240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7086600" y="4038480"/>
            <a:ext cx="1889280" cy="18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533520" y="152280"/>
            <a:ext cx="6172200" cy="708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buClr>
                <a:srgbClr val="48240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Yom Kippur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-Jewish day of atonemen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- a day of fasting and repentance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- takes place in late September or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early October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-most Jews take off from work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and schoo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-starts the evening before the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day it is listed on the Secular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alendar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6705720" y="3276720"/>
            <a:ext cx="1674720" cy="180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0" y="0"/>
            <a:ext cx="7010280" cy="78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buClr>
                <a:srgbClr val="48240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hanukkah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-festival of lights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-commemorates the rededication of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e temple of Jerusalem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-the menorah represents the one day’s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upply of oil that lasted the Jews eight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days during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eir fight against the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Greeks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-celebrated by lighting candles, playing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games for chocolate coins, eating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latkes, and the exchange of gifts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amongst immediate family member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6973920" y="0"/>
            <a:ext cx="2170080" cy="26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Title 3" descr=""/>
          <p:cNvPicPr/>
          <p:nvPr/>
        </p:nvPicPr>
        <p:blipFill>
          <a:blip r:embed="rId2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 txBox="1"/>
          <p:nvPr/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 a brief summary of your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Title 3" descr=""/>
          <p:cNvPicPr/>
          <p:nvPr/>
        </p:nvPicPr>
        <p:blipFill>
          <a:blip r:embed="rId2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 txBox="1"/>
          <p:nvPr/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rections for student assess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Title 3" descr=""/>
          <p:cNvPicPr/>
          <p:nvPr/>
        </p:nvPicPr>
        <p:blipFill>
          <a:blip r:embed="rId2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 txBox="1"/>
          <p:nvPr/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st the grading rubric for assessm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Title 3" descr=""/>
          <p:cNvPicPr/>
          <p:nvPr/>
        </p:nvPicPr>
        <p:blipFill>
          <a:blip r:embed="rId2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 txBox="1"/>
          <p:nvPr/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SzPct val="14966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ishbane, M. (2011, Sept 22). The life cycle of holiness. Retrieved from, http://scheinerman.net/judaism/Rituals/index.htm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SzPct val="14966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ich, T. (2011). A Gentile’s guide to the Jewish Holidays. Judaism 101. Retrieved November 1, 2011 from, http://www.jewfaq.org/holidayg.ht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SzPct val="14966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SzPct val="14966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6" descr="Woman.jpg"/>
          <p:cNvPicPr/>
          <p:nvPr/>
        </p:nvPicPr>
        <p:blipFill>
          <a:blip r:embed="rId2"/>
          <a:stretch/>
        </p:blipFill>
        <p:spPr>
          <a:xfrm>
            <a:off x="3200400" y="609480"/>
            <a:ext cx="990720" cy="10810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04" name="Title 2" descr=""/>
          <p:cNvPicPr/>
          <p:nvPr/>
        </p:nvPicPr>
        <p:blipFill>
          <a:blip r:embed="rId3"/>
          <a:stretch/>
        </p:blipFill>
        <p:spPr>
          <a:xfrm>
            <a:off x="-85680" y="3548160"/>
            <a:ext cx="8315280" cy="27734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3" descr="Wailing Wall.jpg"/>
          <p:cNvPicPr/>
          <p:nvPr/>
        </p:nvPicPr>
        <p:blipFill>
          <a:blip r:embed="rId4"/>
          <a:stretch/>
        </p:blipFill>
        <p:spPr>
          <a:xfrm>
            <a:off x="4419720" y="609480"/>
            <a:ext cx="1379520" cy="914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06" name="Picture 18" descr="Jews.jpg"/>
          <p:cNvPicPr/>
          <p:nvPr/>
        </p:nvPicPr>
        <p:blipFill>
          <a:blip r:embed="rId5"/>
          <a:stretch/>
        </p:blipFill>
        <p:spPr>
          <a:xfrm>
            <a:off x="4419720" y="1676520"/>
            <a:ext cx="1371600" cy="9856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07" name="Picture 19" descr="Whitehouse.jpg"/>
          <p:cNvPicPr/>
          <p:nvPr/>
        </p:nvPicPr>
        <p:blipFill>
          <a:blip r:embed="rId6"/>
          <a:stretch/>
        </p:blipFill>
        <p:spPr>
          <a:xfrm>
            <a:off x="3200400" y="1752480"/>
            <a:ext cx="1068480" cy="914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fade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Title 3" descr=""/>
          <p:cNvPicPr/>
          <p:nvPr/>
        </p:nvPicPr>
        <p:blipFill>
          <a:blip r:embed="rId2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 txBox="1"/>
          <p:nvPr/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te the significance of Judais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ll what Judaism means to y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Title 3" descr=""/>
          <p:cNvPicPr/>
          <p:nvPr/>
        </p:nvPicPr>
        <p:blipFill>
          <a:blip r:embed="rId2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 txBox="1"/>
          <p:nvPr/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ve a brief overview of what you’ll cover in your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Title 3" descr=""/>
          <p:cNvPicPr/>
          <p:nvPr/>
        </p:nvPicPr>
        <p:blipFill>
          <a:blip r:embed="rId2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 txBox="1"/>
          <p:nvPr/>
        </p:nvSpPr>
        <p:spPr>
          <a:xfrm>
            <a:off x="304560" y="1609560"/>
            <a:ext cx="7391160" cy="49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550"/>
              </a:spcBef>
              <a:buSzPct val="14966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e word Torah is Hebrew for ‘teaching’ or ‘law’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550"/>
              </a:spcBef>
              <a:buSzPct val="14966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e first five books of the Bible are called the Torah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550"/>
              </a:spcBef>
              <a:buSzPct val="14966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orah can also refer to all Jewish law and teaching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550"/>
              </a:spcBef>
              <a:buSzPct val="14966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oses wrote the Torah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550"/>
              </a:spcBef>
              <a:buSzPct val="14966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e Torah retell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80000"/>
              </a:lnSpc>
              <a:spcBef>
                <a:spcPts val="425"/>
              </a:spcBef>
              <a:buSzPct val="169286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God’s creation of the world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80000"/>
              </a:lnSpc>
              <a:spcBef>
                <a:spcPts val="425"/>
              </a:spcBef>
              <a:buSzPct val="169286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The selection and growth of the family of Abraham and Sarah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80000"/>
              </a:lnSpc>
              <a:spcBef>
                <a:spcPts val="425"/>
              </a:spcBef>
              <a:buSzPct val="169286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The exile and redemption from Egypt of that “family –become-nation” known as Israel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80000"/>
              </a:lnSpc>
              <a:spcBef>
                <a:spcPts val="425"/>
              </a:spcBef>
              <a:buSzPct val="169286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Israel’s wanderings through the desert until they return to the land of Canaa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80000"/>
              </a:lnSpc>
              <a:spcBef>
                <a:spcPts val="425"/>
              </a:spcBef>
              <a:buSzPct val="169286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Israel’s covenanted relationship with God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80000"/>
              </a:lnSpc>
              <a:spcBef>
                <a:spcPts val="425"/>
              </a:spcBef>
              <a:buSzPct val="169286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God’s  rules for governing a just society and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80000"/>
              </a:lnSpc>
              <a:spcBef>
                <a:spcPts val="425"/>
              </a:spcBef>
              <a:buSzPct val="169286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God’s rules for establishing appropriate worship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80000"/>
              </a:lnSpc>
              <a:spcBef>
                <a:spcPts val="425"/>
              </a:spcBef>
              <a:buSzPct val="169286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25"/>
              </a:spcBef>
              <a:buSzPct val="193571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Title 3" descr=""/>
          <p:cNvPicPr/>
          <p:nvPr/>
        </p:nvPicPr>
        <p:blipFill>
          <a:blip r:embed="rId2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 txBox="1"/>
          <p:nvPr/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ke a timeline of the important historical ev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Group 85" descr=""/>
          <p:cNvPicPr/>
          <p:nvPr/>
        </p:nvPicPr>
        <p:blipFill>
          <a:blip r:embed="rId4"/>
          <a:stretch/>
        </p:blipFill>
        <p:spPr>
          <a:xfrm>
            <a:off x="384120" y="3206880"/>
            <a:ext cx="8375760" cy="2450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Title 3" descr=""/>
          <p:cNvPicPr/>
          <p:nvPr/>
        </p:nvPicPr>
        <p:blipFill>
          <a:blip r:embed="rId2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 txBox="1"/>
          <p:nvPr/>
        </p:nvSpPr>
        <p:spPr>
          <a:xfrm>
            <a:off x="1061640" y="1766880"/>
            <a:ext cx="7769160" cy="33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ewish ritual and religious observances are grounded in Jewish Law, </a:t>
            </a:r>
            <a:r>
              <a:rPr b="0" lang="en-US" sz="3200" spc="-1" strike="noStrike" u="sng">
                <a:solidFill>
                  <a:srgbClr val="993300"/>
                </a:solidFill>
                <a:uFillTx/>
                <a:latin typeface="Times New Roman"/>
                <a:hlinkClick r:id="rId4"/>
              </a:rPr>
              <a:t>Halakhah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aning “the path one walks”.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low are the three most common Jewish practices observ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it Mila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r Mitzva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tzva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Box 1"/>
          <p:cNvSpPr/>
          <p:nvPr/>
        </p:nvSpPr>
        <p:spPr>
          <a:xfrm>
            <a:off x="685800" y="593244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Visit Rabbi Scheinerman’s Judaism website to discover other Jewish practices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Title 3" descr=""/>
          <p:cNvPicPr/>
          <p:nvPr/>
        </p:nvPicPr>
        <p:blipFill>
          <a:blip r:embed="rId2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 txBox="1"/>
          <p:nvPr/>
        </p:nvSpPr>
        <p:spPr>
          <a:xfrm>
            <a:off x="1061640" y="1766520"/>
            <a:ext cx="7769160" cy="29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aning “Covenant of Circumcision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ceremony confirms the transition of the male infant from being a child of Adam, to a member of the Jewish people thus entering the “covenant of Abraham”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pon the birth of a male child, circumcision can be expected before 8 days has expired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Box 1"/>
          <p:cNvSpPr/>
          <p:nvPr/>
        </p:nvSpPr>
        <p:spPr>
          <a:xfrm>
            <a:off x="457200" y="600876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&gt;Back to Religious Practices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Title 3" descr=""/>
          <p:cNvPicPr/>
          <p:nvPr/>
        </p:nvPicPr>
        <p:blipFill>
          <a:blip r:embed="rId2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 txBox="1"/>
          <p:nvPr/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aning “son of the commandments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youth, a boy will not formally be a member of the Halakhic community until he turns thirte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ceremony bestows full responsibility and devotion on learning the Tora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ame ceremony for girls is calle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at mitzva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meaning “daughter of the commandments”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Box 5"/>
          <p:cNvSpPr/>
          <p:nvPr/>
        </p:nvSpPr>
        <p:spPr>
          <a:xfrm>
            <a:off x="457200" y="600876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&gt;Back to Religious Practices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30T16:30:17Z</dcterms:created>
  <dc:creator/>
  <dc:description/>
  <dc:language>en-US</dc:language>
  <cp:lastModifiedBy>Ryan Rafacz</cp:lastModifiedBy>
  <dcterms:modified xsi:type="dcterms:W3CDTF">2011-11-01T22:14:4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3524729990</vt:lpwstr>
  </property>
</Properties>
</file>